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C5E-A19F-4A21-8F99-EC0C78B8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AA1-8A7A-45AC-9A8D-EE48195E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9D8-7188-4C33-85FF-F8D8EE1E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D06-39AF-40FC-96F6-EE771993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78F3-C3F1-4773-BF40-0F0A1EDB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3021-FFD4-4C88-82BD-C74E5DEB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7851-D160-491A-906B-4146826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798D-B1F6-480A-B64B-8FFEC69D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5210-3FA9-4D7E-9D64-6930BE4E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0E41-B7CE-4EA5-94D9-0B92A776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D659-8360-4AD5-A227-BF8E1797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3FA-5F16-4A7C-BA58-F1DC5FB6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300E-98DD-40AB-B00C-2A6096F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C546-F39B-4026-B972-001E1313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3DE4-0EAD-44BA-88E1-C357F608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81DB-A900-4197-9445-63295443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54D1-F056-431A-8E6F-2D724604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7A1-E559-4657-9705-DC78A256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29F-2192-4EDD-B10B-D545BD1F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467-2867-4B69-AA86-C56BF560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40C-999F-440F-8032-3E403EE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019-6228-481F-ACF5-BFAB89A8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9BC-B880-4088-A478-EB58A366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0F6-DACA-42D4-9F7E-9F4E0152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BE24-D267-4775-A217-663EB8CF7B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C365-497B-4659-AACF-0F3417BD4E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Whoosh" TargetMode="External"/><Relationship Id="rId3" Type="http://schemas.microsoft.com/office/2007/relationships/media" Target="file:///tmp/home/.config/libreoffice/4/user/gallery/Whoosh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video" Target="file:///tmp/home/.config/libreoffice/4/user/gallery/Embedded%20Sound%202" TargetMode="External"/><Relationship Id="rId4" Type="http://schemas.microsoft.com/office/2007/relationships/media" Target="file:///tmp/home/.config/libreoffice/4/user/gallery/Embedded%20Sound%202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Burns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eghan Brenne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rns can be caused by fire, hot objects or liquids, electricity, the sun and chemic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2120" y="4114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67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rst-degree burn in which only the outer layer of skin is burned and it turns 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ype of first-degree burn is sunbur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take care of it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submerge in cold water for 10-30 minutes and wrap burn loosely in clean 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First-degree burns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88080" y="5105520"/>
            <a:ext cx="2455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Second-degree burna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’s a serious burn in which the burned area blis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uses intense redness, pain, and swell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usually heals without scarr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take care of it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merge in cold water. Don’t pop blisters or remove loose skin. Wrap burn loosely in clean, dry dressing. Elevate the burned a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91520" y="2666880"/>
            <a:ext cx="152388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Third-degree burns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a very serious burn in which deep layers of the skin and nerve ending are damag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urned areas may be white or charred, pains may be int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Call for medical hel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289584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08960" y="4114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08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61960" y="3352680"/>
            <a:ext cx="3886200" cy="60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nks for watching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51:30Z</dcterms:created>
  <dc:creator>Kraybill Campus LMS</dc:creator>
  <dc:description/>
  <dc:language>en-US</dc:language>
  <cp:lastModifiedBy>Kraybill Campus LMS</cp:lastModifiedBy>
  <dcterms:modified xsi:type="dcterms:W3CDTF">2011-05-24T13:04:33Z</dcterms:modified>
  <cp:revision>9</cp:revision>
  <dc:subject/>
  <dc:title>Burns</dc:title>
</cp:coreProperties>
</file>